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26D3-AC4A-47B5-A99E-7BD296A14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D4CD-DBA1-4C8C-B628-0D8AADF2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2867-3C8C-432A-B580-4A24F233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284B-2306-43A0-8F64-E14D3020E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A433-E93D-49B3-BCD4-7845A13E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FA4E-7519-4751-A1DC-656E5E2E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2047-4FAE-4E6C-B73B-CE38F3EE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7BDA-6CFA-4791-AADB-8E519235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5DB0-C64C-447B-954F-769F2CA4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BEF2-7018-417F-8145-B414289E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26EA-726F-4171-81E9-8638526C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6204-95BA-4432-8567-6A5E21E9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54B8-F7CD-4E3D-A8A2-C2C368E81C7D}" type="slidenum">
              <a:rPr b="0" lang="ar-Q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280" y="609480"/>
          <a:ext cx="6629400" cy="8321760"/>
        </p:xfrm>
        <a:graphic>
          <a:graphicData uri="http://schemas.openxmlformats.org/drawingml/2006/table">
            <a:tbl>
              <a:tblPr/>
              <a:tblGrid>
                <a:gridCol w="5029200"/>
                <a:gridCol w="1600200"/>
              </a:tblGrid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rue statement that is backed b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in the form of facts or statistics used for reference or ana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t which follows a regular , organized patte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a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ed to or measured by quality, it involves descriptive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tatement that expresses one’s view and which cannot be proved  right or wr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ing to do with moral princi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ystematic process of collecting and analyzing information that aims at creating new knowle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ed to or measured by quantity, it involves numerical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ing questionable and open to arg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pt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activity or profession of writing in newspapers and magaz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TextBox 2"/>
          <p:cNvSpPr/>
          <p:nvPr/>
        </p:nvSpPr>
        <p:spPr>
          <a:xfrm>
            <a:off x="304920" y="16344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eck off the terms used for the bingo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457200"/>
          <a:ext cx="5867280" cy="111276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pt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457200" y="2163600"/>
          <a:ext cx="5867280" cy="111312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pt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457200" y="3916440"/>
          <a:ext cx="5867280" cy="111276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a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pt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57200" y="5715000"/>
          <a:ext cx="5867280" cy="111276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a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pt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457200" y="7421400"/>
          <a:ext cx="5867280" cy="111312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Straight Connector 7"/>
          <p:cNvSpPr/>
          <p:nvPr/>
        </p:nvSpPr>
        <p:spPr>
          <a:xfrm>
            <a:off x="0" y="1905120"/>
            <a:ext cx="685800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0" y="3579840"/>
            <a:ext cx="685800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9"/>
          <p:cNvSpPr/>
          <p:nvPr/>
        </p:nvSpPr>
        <p:spPr>
          <a:xfrm>
            <a:off x="0" y="5408640"/>
            <a:ext cx="685800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0" y="7161120"/>
            <a:ext cx="6858000" cy="18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57200" y="457200"/>
          <a:ext cx="5867280" cy="111276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pt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57200" y="2163600"/>
          <a:ext cx="5867280" cy="111312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pt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57200" y="3916440"/>
          <a:ext cx="5867280" cy="111276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a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pt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57200" y="5715000"/>
          <a:ext cx="5867280" cy="111276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a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pt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57200" y="7421400"/>
          <a:ext cx="5867280" cy="111312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a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Straight Connector 7"/>
          <p:cNvSpPr/>
          <p:nvPr/>
        </p:nvSpPr>
        <p:spPr>
          <a:xfrm>
            <a:off x="0" y="1905120"/>
            <a:ext cx="685800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8"/>
          <p:cNvSpPr/>
          <p:nvPr/>
        </p:nvSpPr>
        <p:spPr>
          <a:xfrm>
            <a:off x="0" y="3579840"/>
            <a:ext cx="685800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9"/>
          <p:cNvSpPr/>
          <p:nvPr/>
        </p:nvSpPr>
        <p:spPr>
          <a:xfrm>
            <a:off x="0" y="5408640"/>
            <a:ext cx="685800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10"/>
          <p:cNvSpPr/>
          <p:nvPr/>
        </p:nvSpPr>
        <p:spPr>
          <a:xfrm>
            <a:off x="0" y="7161120"/>
            <a:ext cx="6858000" cy="18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57200" y="457200"/>
          <a:ext cx="5867280" cy="111276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pt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457200" y="2163600"/>
          <a:ext cx="5867280" cy="111312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pt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457200" y="3916440"/>
          <a:ext cx="5867280" cy="111276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pt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57200" y="5715000"/>
          <a:ext cx="5867280" cy="111276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a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57200" y="7421400"/>
          <a:ext cx="5867280" cy="111312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Straight Connector 7"/>
          <p:cNvSpPr/>
          <p:nvPr/>
        </p:nvSpPr>
        <p:spPr>
          <a:xfrm>
            <a:off x="0" y="1905120"/>
            <a:ext cx="685800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8"/>
          <p:cNvSpPr/>
          <p:nvPr/>
        </p:nvSpPr>
        <p:spPr>
          <a:xfrm>
            <a:off x="0" y="3579840"/>
            <a:ext cx="685800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9"/>
          <p:cNvSpPr/>
          <p:nvPr/>
        </p:nvSpPr>
        <p:spPr>
          <a:xfrm>
            <a:off x="0" y="5408640"/>
            <a:ext cx="685800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10"/>
          <p:cNvSpPr/>
          <p:nvPr/>
        </p:nvSpPr>
        <p:spPr>
          <a:xfrm>
            <a:off x="0" y="7161120"/>
            <a:ext cx="6858000" cy="18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57200" y="457200"/>
          <a:ext cx="5867280" cy="111276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pt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57200" y="2163600"/>
          <a:ext cx="5867280" cy="111312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pt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57200" y="3916440"/>
          <a:ext cx="5867280" cy="111276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57200" y="5715000"/>
          <a:ext cx="5867280" cy="111276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a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457200" y="7421400"/>
          <a:ext cx="5867280" cy="111312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pt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Straight Connector 7"/>
          <p:cNvSpPr/>
          <p:nvPr/>
        </p:nvSpPr>
        <p:spPr>
          <a:xfrm>
            <a:off x="0" y="1905120"/>
            <a:ext cx="685800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8"/>
          <p:cNvSpPr/>
          <p:nvPr/>
        </p:nvSpPr>
        <p:spPr>
          <a:xfrm>
            <a:off x="0" y="3579840"/>
            <a:ext cx="685800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9"/>
          <p:cNvSpPr/>
          <p:nvPr/>
        </p:nvSpPr>
        <p:spPr>
          <a:xfrm>
            <a:off x="0" y="5408640"/>
            <a:ext cx="685800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10"/>
          <p:cNvSpPr/>
          <p:nvPr/>
        </p:nvSpPr>
        <p:spPr>
          <a:xfrm>
            <a:off x="0" y="7161120"/>
            <a:ext cx="6858000" cy="18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57200" y="457200"/>
          <a:ext cx="5867280" cy="111276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pt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457200" y="2163600"/>
          <a:ext cx="5867280" cy="111312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a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pt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57200" y="3916440"/>
          <a:ext cx="5867280" cy="111276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a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57200" y="5715000"/>
          <a:ext cx="5867280" cy="111276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a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pt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57200" y="7421400"/>
          <a:ext cx="5867280" cy="111312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pt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Straight Connector 7"/>
          <p:cNvSpPr/>
          <p:nvPr/>
        </p:nvSpPr>
        <p:spPr>
          <a:xfrm>
            <a:off x="0" y="1905120"/>
            <a:ext cx="685800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8"/>
          <p:cNvSpPr/>
          <p:nvPr/>
        </p:nvSpPr>
        <p:spPr>
          <a:xfrm>
            <a:off x="0" y="3579840"/>
            <a:ext cx="685800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9"/>
          <p:cNvSpPr/>
          <p:nvPr/>
        </p:nvSpPr>
        <p:spPr>
          <a:xfrm>
            <a:off x="0" y="5408640"/>
            <a:ext cx="685800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7161120"/>
            <a:ext cx="6858000" cy="18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6"/>
          <p:cNvSpPr txBox="1"/>
          <p:nvPr/>
        </p:nvSpPr>
        <p:spPr>
          <a:xfrm>
            <a:off x="2124000" y="814320"/>
            <a:ext cx="298152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be0e3"/>
                  </a:solidFill>
                  <a:miter/>
                </a:ln>
                <a:solidFill>
                  <a:srgbClr val="000080">
                    <a:alpha val="72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ollow up work</a:t>
            </a:r>
            <a:endParaRPr b="0" lang="en-US" sz="1800" spc="1" strike="noStrike">
              <a:ln w="12600">
                <a:solidFill>
                  <a:srgbClr val="bbe0e3"/>
                </a:solidFill>
                <a:miter/>
              </a:ln>
              <a:solidFill>
                <a:srgbClr val="000080">
                  <a:alpha val="72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9" name="Picture 5" descr="19832865"/>
          <p:cNvPicPr/>
          <p:nvPr/>
        </p:nvPicPr>
        <p:blipFill>
          <a:blip r:embed="rId1"/>
          <a:stretch/>
        </p:blipFill>
        <p:spPr>
          <a:xfrm>
            <a:off x="228600" y="76320"/>
            <a:ext cx="1523880" cy="12952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380880" y="144792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rder to recap the core knowledge from this session, students are asked to read the mentioned research paper then reflect on it critically and answer the given ques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04920" y="2500200"/>
            <a:ext cx="6324480" cy="1334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search Paper Suggested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ren’s Views on Children’s Right to Work: Reflections from Belfa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onard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ildhood</a:t>
            </a:r>
            <a:r>
              <a:rPr b="0" i="1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004; 11: 45-6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228600" y="8564400"/>
            <a:ext cx="640080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 Activity  Sheet # 6 in student workbook . Reference : SB6- What is Resear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2362320" y="228600"/>
            <a:ext cx="2057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be0e3"/>
                  </a:solidFill>
                  <a:miter/>
                </a:ln>
                <a:solidFill>
                  <a:srgbClr val="000080">
                    <a:alpha val="75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ctivity 7</a:t>
            </a:r>
            <a:endParaRPr b="0" lang="en-US" sz="1800" spc="1" strike="noStrike">
              <a:ln w="12600">
                <a:solidFill>
                  <a:srgbClr val="bbe0e3"/>
                </a:solidFill>
                <a:miter/>
              </a:ln>
              <a:solidFill>
                <a:srgbClr val="000080">
                  <a:alpha val="75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380880" y="4368960"/>
            <a:ext cx="6172200" cy="311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The aim of this activity is make students critically evaluate the research pap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student must be able to find out if the research is Qualitative or quantita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uthor’s idea in carrying out this re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methodological design of this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importance of this research pap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7:21:59Z</dcterms:created>
  <dc:creator>Gene</dc:creator>
  <dc:description/>
  <dc:language>en-US</dc:language>
  <cp:lastModifiedBy>Gene</cp:lastModifiedBy>
  <dcterms:modified xsi:type="dcterms:W3CDTF">2008-03-03T17:22:40Z</dcterms:modified>
  <cp:revision>1</cp:revision>
  <dc:subject/>
  <dc:title>Slide 1</dc:title>
</cp:coreProperties>
</file>